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DEC9-0211-4F2E-A19D-E4011F553876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1521-EA38-47A1-B86C-3953D45F2A18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0C84-789F-4F92-BF3D-CFFD62302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26E3-C0DF-4134-8AD7-9A1AEA87B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C24D-F59C-49B5-9D0E-9510B0EA5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4757-30C7-413D-A861-0168E5545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AFD1-F655-41B7-A268-1B6430BEDF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4CBE-6B75-4961-A783-1F968DB87B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F8EF-CAFE-43CB-B818-266A1A039A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774B7-1BF1-42B4-80F2-1B256FB2FD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8D8D-15F1-40CF-B209-4687D5351A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4135-A7A0-49BA-9AEA-25E54C49F2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49B74-BBC4-4752-94D0-2D8C5E3855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672A-C6EC-4796-9497-622AB14FB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C2D0-DF2C-42D9-887A-6C4992CBDB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9204-B498-4A34-A988-9CDB5F9A89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C9F7-AE31-4CF8-A670-BC6689B803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164F-81AD-47D1-9B0C-B59C6B3522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1B5B-5F79-4191-B0A5-9DB0BD9824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13A-ADCD-474C-B491-FA39DD7C75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21D-5A7A-4586-8E3A-2F40FBE059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C5B-A725-420E-A055-F79CA76890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4FC-043E-46F2-A0C7-9AD812CBE4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E5F-6426-4698-87B2-3E8A4653C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E058-9393-40BC-BEDE-E138B1DCA6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438-4173-4AF2-B6BB-90643EC5A7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FD8-0A9C-4C1E-BB37-AAD2E65FAB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BB0-3C29-4175-A6FD-9E71820CCD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874-8086-440A-82B4-200188DE2F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6E8-B72F-48FE-9613-3E4C9D7BC0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AF5-3765-418F-B0E8-73220159ED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58D-BCEA-4863-A675-306071AC6C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C3E2E-B360-407A-B916-C8B5195E2C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5D1EF-A116-453B-9EF3-AFD5BB8B67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DF8AF-2276-4E16-9DAC-C62F434B6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A2FE-E94A-498A-9EEB-66E5CB35FA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F436E-11A9-4687-8744-DF82768BA6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EC046-A687-4891-9C40-4AD0AC98AD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7AD73-B5CB-4FE0-9734-D5104C10FA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95B0E-0025-42D1-B5CB-950C3AA2AD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CCD62-C1B9-4679-B98F-F192654CDB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18BBD-D70D-4EDF-BAE1-8C34D5BBDE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34207-AC7F-4F7B-B23D-9144737868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201CD-36F9-4CEB-BE6F-3177CA2766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1255A-B6A7-4C35-8E19-3CD4B0455B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474B0-EA46-4A04-85E4-FDF219144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9AF7-75D7-44A8-B10C-264F52824E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6DA84-822C-442A-B0DF-757EFD90FD0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278FD-B725-4A68-A069-CD541500F37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4C586-E27B-4FA1-A718-F6A13C0F42A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E1431-0013-4DEB-AF97-B5A4C2FAE5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27D0B-2C20-406A-9C25-0C34AAADD31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63321-AA30-4EB0-929E-741EC98917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75496-CC90-4502-BAEF-F4F26046466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2396D-6795-4553-AC45-BAC3383094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30E53-0902-47C6-B2C4-D7797FDD8EE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47D3B-DA05-4A1A-81DE-5958BBE44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69FD-FBFD-4F4C-B896-C2AF219AF2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2164D-BE15-47B0-812C-78EDCD8B8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1CC2-182D-48A4-83E4-7E6BAFF78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F26D-08E5-4056-9A0D-D0B701CD1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4249-2FE7-4982-91F8-E84A49712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5EEA-BB3F-4606-82E9-7DA5E3178BEA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73600" y="624492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EF09-A33A-46DB-A0DB-EFCAC75DC297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73600" y="624492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F194-5A08-4012-A788-6D2E93D598C9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7473600" y="624492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C5F6-BE4D-454D-BD17-476F1188A67D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7473600" y="624492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92E0-484C-4971-822D-8877BC1F9207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Bell Ringer: 9-23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uring what group of people did the first settlements appear?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1F40-1E92-4D1F-B2F7-50F0C763AC4C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 Bold"/>
                <a:ea typeface="Times New Roman Bold"/>
              </a:rPr>
              <a:t>FEATURES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“</a:t>
            </a:r>
            <a:r>
              <a:rPr b="0" lang="en-US" sz="28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eye for an eye, tooth for a tooth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Revolutionary new legal princip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Earlier Sumerian laws calculated all punishments, no matter what the crime, in monetary fin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Punishments varied according to the social status of offend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Very harsh punishment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Detailed regulation of economic lif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OC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g 9: Cuneifor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g 10: Sumerians c-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D0C8-56B4-47F5-BFFC-77D786CB9656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457200" y="0"/>
            <a:ext cx="8267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FIRST SUMERIAN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785880"/>
            <a:ext cx="88520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800"/>
                </a:solidFill>
                <a:latin typeface="Times New Roman Bold"/>
                <a:ea typeface="Times New Roman Bold"/>
              </a:rPr>
              <a:t>Arrived around 5000 B.C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Settled in region and took up farming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Built dams and canals to get water from 2 river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Grew barley and dates and raised sheep and goat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603520" y="3540240"/>
            <a:ext cx="5562720" cy="35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Sumerians Cities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0800"/>
                </a:solidFill>
                <a:latin typeface="Times New Roman Bold"/>
                <a:ea typeface="Times New Roman Bold"/>
              </a:rPr>
              <a:t>Each city surrounded by wal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Permanent garrisons of soldiers stationed in towers and at each ga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Wide boulevards crossed city, lined by houses of the wealth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Rest of city made up of  twisting alleys,flat-roofed hu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Homes of farmers, and small craftsme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038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ZIGGUR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330800" y="1701360"/>
            <a:ext cx="48765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Most dominant structure in each c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ff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Dedicated to patron god of the c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Largest structure in c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ff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Resembled a gigantic stepped pyrami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Designed to look like mountains because Sumerians believed their gods liked to live on top of mountai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0" y="4051440"/>
            <a:ext cx="419112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INVENTION OF WRITING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28920" y="1383840"/>
            <a:ext cx="4965480" cy="55371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3500 BC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 </a:t>
            </a:r>
            <a:r>
              <a:rPr b="0" lang="en-US" sz="36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pictograms represent certain object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Drawn on clay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43434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WRITING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Emerging writing system known as </a:t>
            </a: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“cuneiform=Means “wedge-shaped”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Impressed on clay tablets with wood stylu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Very complicat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2000 symbols </a:t>
            </a: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educed to 500 over tim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Pro=Scribes 15 yrs of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A secret held by only a few specially-trained individua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HAMMURABI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man credited with the first uniform law code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Applied to almost all of Mesopotamia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189320" y="1752480"/>
            <a:ext cx="495468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 Bold"/>
                <a:ea typeface="Times New Roman Bold"/>
              </a:rPr>
              <a:t>HAMMURABI’S CO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Greatest of his accomplishmen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Carved on a huge stone slab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3" marL="1639800" indent="-228600">
              <a:lnSpc>
                <a:spcPct val="100000"/>
              </a:lnSpc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Probably carried off from Babylon after Ebla destroyed the Babylonian Empir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Contained 282 sec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081080" y="1447920"/>
            <a:ext cx="1763640" cy="510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Morin</dc:creator>
  <dc:description/>
  <cp:keywords/>
  <dc:language>en-US</dc:language>
  <cp:lastModifiedBy>TylerDaughtry</cp:lastModifiedBy>
  <dcterms:modified xsi:type="dcterms:W3CDTF">2013-09-23T17:07:20Z</dcterms:modified>
  <cp:revision>6</cp:revision>
  <dc:subject/>
  <dc:title>Early Empires of Ancient Mesopotamia</dc:title>
</cp:coreProperties>
</file>